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E76-FF81-4C3F-BA8D-9ECE6A96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762-13A9-46C7-B681-BD865F53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ACD-44A7-40B6-A9C0-0B7FC047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F75-CF75-4C80-A1EB-6731DB04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5037-BDCD-4ACB-A87C-25E223C8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99AC-D5A4-454D-8EA2-AE48ED4B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8913-F6A1-4C51-AD8C-8E7790F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8138-1FA2-4B4E-BA93-8DCCDBC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E36-8CCB-44DA-8E89-5BCDAE5E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4EA-96DF-4978-A3AB-A9A0A8F0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C9DC-0B96-4A86-8502-EC187D2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5CD-5285-46CB-85A6-1F6C134D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F170-E18B-42E6-B661-ED2E891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2DD-CAA2-4D12-81CF-AC560C28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0409-53BE-48B4-9063-97731E1A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ED43-A59E-4AAD-A94E-FE922616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8406-09E9-4DBC-B189-B15212F3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5F2-6335-4EEE-95D5-55457A60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2EC-833A-4DE3-A5E8-70FD31A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A11-C9A8-4C5F-9D0E-AFA243A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3E0-B9EB-4F4A-9802-181249F9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9FD-53CC-41A0-8EC2-8920B8C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1C8-3C67-4319-BD47-945FDB3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A9F-6FA0-4531-A049-2314DAA5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624-AAB8-4703-9A0E-2F72DBEBA2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1CA-7EFF-4321-80F4-E945D510C0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arrollo de Aplicaciones Web en Plataforma 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né Díaz Monteneg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ubre de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s Ejercic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páginas jsp (Java Server Page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Servlet y páginas JS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res capas, implementación de conectividad a base de datos usando JSP – Servlet y DB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un documento HTML,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inicio.html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ormulario con dos campos de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stino del formulario: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respuesta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la página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respuesta.jsp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cibir formul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catenar ambas palab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viarlas a pantall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mplearemos el mismo documento,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nicio.html.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destino del formulario debe se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ConcatenaServl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el Servlet ConcatenaServlet.jav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imos el formul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atenamos las palabr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samos un bean para enviar el resul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la página respuesta2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e el bean con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pliega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7:18:45Z</dcterms:created>
  <dc:creator>rdm.gral</dc:creator>
  <dc:description/>
  <dc:language>en-US</dc:language>
  <cp:lastModifiedBy>rdm.gral</cp:lastModifiedBy>
  <dcterms:modified xsi:type="dcterms:W3CDTF">2004-10-26T17:45:36Z</dcterms:modified>
  <cp:revision>1</cp:revision>
  <dc:subject/>
  <dc:title>Desarrollo de Aplicaciones Web en Plataforma Java</dc:title>
</cp:coreProperties>
</file>